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gif" ContentType="image/gif"/>
  <Override PartName="/ppt/media/image5.jpeg" ContentType="image/jpeg"/>
  <Override PartName="/ppt/media/image6.gif" ContentType="image/gif"/>
  <Override PartName="/ppt/media/image10.jpeg" ContentType="image/jpeg"/>
  <Override PartName="/ppt/media/image7.gif" ContentType="image/gif"/>
  <Override PartName="/ppt/media/image8.wmf" ContentType="image/x-wmf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E6A82-853C-4D54-87DB-7A47EE89DE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C24F7-936F-4FC7-B010-1229285D7C39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1C55-878F-47E9-B1BA-A55326EBF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2CBD-EF59-4655-893C-C3F41E4FA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698E-03CA-44A1-B81C-8C19C2733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9BEA-48D2-4549-93E6-DC34EA900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E0D0B-4E02-4C90-BEAB-FFF6A4773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0088F-991F-434D-9A72-3CEFBAD6F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411D7-A096-484F-B8F0-B33FD3A26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44BD2-B3AE-496B-BDBD-05E1A2D89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52DCE-AE76-46A6-B34B-7C3F66116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2F9E0-8930-4D2B-92A3-EADB0A286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F87CE-521B-44BA-BDEB-766CB2B6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40A6-4793-4E33-8BA8-6EA538840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FB363-D5E1-4739-B462-5CFB48B2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AD07E-1171-4C2C-9003-405801A0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99054-3642-4105-8597-0963E0C72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71F9C-62D2-4618-9A99-6BECCAF5E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FFA1B-A693-4C5E-9596-6541CE3BA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A8743-B831-4190-9C92-B7B0940CA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108CB-B236-4FB2-9AED-FE4915BE2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01EFA-9241-4DFF-AB8B-3C9C4EE1E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A8406-4CF4-4876-99EB-CDA7B98D0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45754-D4BC-4B13-9093-FD31A74AA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9A35-D1E4-4DC4-B2E0-EA1ECDEC8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3EFEA-C848-4991-AC10-D90D463F6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0FFFD-6598-40D4-A148-87E78EF2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95782-417A-4FA0-A281-062501F2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DA927-4824-4450-9FE4-92E9174BC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F81E7-54BB-4FA5-81E1-D1E6002D8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1EF1B-2F24-4FFB-88D3-6CDA0E985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9DA4A-62EB-4966-AAF1-644C8ADC8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7F25-5D4A-478C-BC3A-613E93C7A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8177-69ED-4F04-8930-E322F0C8A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9B9D-5236-4DAC-914E-DAB3C2521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1D2C-7DEC-4595-A87B-0B9A84E5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81CC-7245-412E-B999-DFC1F46B3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F238-6E56-46B0-BA4D-093D6D36F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B7956-57D0-4C65-BDB2-5D131FEE7CF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C4CA6-90FF-4CB6-A015-4FAA5E234A9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82126-71BA-484A-9E1B-326DD55CAC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dhslmc.blogspot.com/" TargetMode="External"/><Relationship Id="rId2" Type="http://schemas.openxmlformats.org/officeDocument/2006/relationships/hyperlink" Target="http://www.mabryonline.org/blogs/media/" TargetMode="External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sto.kcsdschools.com/blogs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_M_336pDWoM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k-8DRPCJ86U&amp;feature=related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NN2I1pWXjXI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53352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Richmond County School’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2009 Cyber Acade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066680" y="533520"/>
            <a:ext cx="6629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ELCOME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logging Platform???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286000" y="2332080"/>
            <a:ext cx="5029200" cy="45259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 rot="19344000">
            <a:off x="6714720" y="269640"/>
            <a:ext cx="160020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asons for Educational Blog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837720" y="2666880"/>
            <a:ext cx="377028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llabora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mmunica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mpa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iscus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plai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magin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723920" y="251424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bserve and Lo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ersuad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edic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blem Solv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Ques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member and Reflec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5638680"/>
            <a:ext cx="8381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Highly Effective Way for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udents to become Better Writ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From YOU TUBE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10 Reasons for Blogging in Classroom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Literac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ngage Audi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nteractiv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ulti-Learner Typ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omotes ESL Intera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lectronic Agend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istance Agend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Learner Communit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echnology in the Classroo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nvironmentally Consci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eachers Blog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flect on teaching experiences/log/descrip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eaching tip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hare activit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ow to’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plore teaching/learn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ost class inform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mmunicate with pare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ost writing promp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n-line reading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ost  class photograph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edia Center Blogs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reate a literature circ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reate online book clu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vite student comments on a character/autho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ink with another class somewhere in the worl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pdate on Book Fai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ew book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eature a magazin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u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ject Updat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181480" y="533520"/>
            <a:ext cx="182880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dia Center Blog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838080" y="1143000"/>
            <a:ext cx="76932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dhslmc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a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st Middle School - Blogs|Media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HS Media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nquiet 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867280" y="4038480"/>
            <a:ext cx="1857600" cy="13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743200" y="1981080"/>
            <a:ext cx="4000680" cy="33069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CHAL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xamples… BLOG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9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90920" y="3048120"/>
            <a:ext cx="50799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66"/>
                </a:solidFill>
                <a:latin typeface="Arial"/>
              </a:rPr>
              <a:t>RESOURCES</a:t>
            </a:r>
            <a:endParaRPr b="1" lang="en-US" sz="6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ttp://www.learn2echalk.com/www/academy/images/%7BBDF419E4-E25D-4949-8A35-192D58E2566A%7D/eChalkPower.jp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304812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YouTube - Pay Att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3505320" y="1752480"/>
            <a:ext cx="32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Web 2.0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 rot="2513400">
            <a:off x="5942880" y="426672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mp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6477120" y="58672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logg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 rot="19066200">
            <a:off x="308880" y="1674720"/>
            <a:ext cx="231768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iki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Text Box 8"/>
          <p:cNvSpPr/>
          <p:nvPr/>
        </p:nvSpPr>
        <p:spPr>
          <a:xfrm rot="1457400">
            <a:off x="0" y="38095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KYP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3276720" y="556272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ocial Network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6858000" y="24382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66"/>
                </a:solidFill>
                <a:latin typeface="Arial"/>
              </a:rPr>
              <a:t>PODCAST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3" name="Picture 11" descr="podcast2"/>
          <p:cNvPicPr/>
          <p:nvPr/>
        </p:nvPicPr>
        <p:blipFill>
          <a:blip r:embed="rId2"/>
          <a:stretch/>
        </p:blipFill>
        <p:spPr>
          <a:xfrm rot="20791800">
            <a:off x="3809880" y="4038480"/>
            <a:ext cx="1447920" cy="14479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13"/>
          <p:cNvSpPr/>
          <p:nvPr/>
        </p:nvSpPr>
        <p:spPr>
          <a:xfrm rot="19450800">
            <a:off x="6269400" y="4411080"/>
            <a:ext cx="325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Arial"/>
              </a:rPr>
              <a:t>Digital Storytell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WordArt 14"/>
          <p:cNvSpPr txBox="1"/>
          <p:nvPr/>
        </p:nvSpPr>
        <p:spPr>
          <a:xfrm>
            <a:off x="1371600" y="304920"/>
            <a:ext cx="70866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Digital Learner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56" name="Text Box 16"/>
          <p:cNvSpPr/>
          <p:nvPr/>
        </p:nvSpPr>
        <p:spPr>
          <a:xfrm>
            <a:off x="1066680" y="48769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Twitt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Text Box 17"/>
          <p:cNvSpPr/>
          <p:nvPr/>
        </p:nvSpPr>
        <p:spPr>
          <a:xfrm rot="819000">
            <a:off x="227880" y="60199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Arial"/>
              </a:rPr>
              <a:t>Audio and Vide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Text Box 18"/>
          <p:cNvSpPr/>
          <p:nvPr/>
        </p:nvSpPr>
        <p:spPr>
          <a:xfrm rot="20208000">
            <a:off x="360" y="22824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Arial"/>
              </a:rPr>
              <a:t>Flick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828800" y="83808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Did you KNOW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9520" y="2362320"/>
            <a:ext cx="335268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981080" y="0"/>
            <a:ext cx="5319720" cy="66675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6705720" y="655308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66"/>
                </a:solidFill>
                <a:latin typeface="Arial"/>
              </a:rPr>
              <a:t>http://openparachute.files.wordpress.com/2008/05/blog-to-blog.gif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99"/>
                </a:solidFill>
                <a:latin typeface="Arial"/>
              </a:rPr>
              <a:t>Blogging With E-Chalk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990720" y="990720"/>
            <a:ext cx="70866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BLOGS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838080" y="3581280"/>
            <a:ext cx="236232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YOU TUBE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YouTube - Blogs in Plain Englis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ERM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log- Web log (N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On-line diary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Log of your thoughts, ideas, useful links, photos, videos, news (Rants, announcements, ponderings)  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Express Yourself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Focus on a particular subject: food, politics, new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Post or entry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log- Maintain or add content  (V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logger- One who blog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log Post- Individual artic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LOG BASIC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verse chronological order-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atest story on top of website- others descend beneath i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itle-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ader or subjec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od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ments from read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st Time and da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YPES OF BLOG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log- detailed posting (article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odcasting- audio blo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log- video blo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inkBlog- links  (social bookmarking) delicio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blog- sending pictures from phon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roblog- short text message (Twitter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niblog-using 3</a:t>
            </a:r>
            <a:r>
              <a:rPr b="0" lang="en-US" sz="2400" spc="-1" strike="noStrike" baseline="30000">
                <a:solidFill>
                  <a:srgbClr val="003366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party inf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iveblog-covering live eve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4T15:00:15Z</dcterms:created>
  <dc:creator>ElizabethBryant</dc:creator>
  <dc:description/>
  <dc:language>en-US</dc:language>
  <cp:lastModifiedBy>ElizabethBryant</cp:lastModifiedBy>
  <dcterms:modified xsi:type="dcterms:W3CDTF">2009-01-22T19:53:22Z</dcterms:modified>
  <cp:revision>31</cp:revision>
  <dc:subject/>
  <dc:title>Slide 1</dc:title>
</cp:coreProperties>
</file>